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79B-1302-4C9A-A5C0-B3BA5B78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B71-6E09-4897-A9E4-56FA1E5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E1B-B843-42F5-8EDC-45EB9614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A25-2FBA-4B9B-BA00-A0E598F5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B98-A0EA-45A4-855D-8C04FB24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315-FB6D-4336-B24B-DAE3F5E0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DC4-BA57-411D-8D6A-F8205533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AC5-B5AE-437A-BF06-F88441AF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75F-AFAD-4407-BCEC-00E0A2EA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39D-B174-4E95-8660-DA743F6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F0F-1A33-4B49-AF6A-03F0F99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8A4-3A74-441E-A009-C1402D6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DBD0-4405-4232-982C-1563E85F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2014560" cy="43909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 z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é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d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qu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s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h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n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640" y="4941360"/>
            <a:ext cx="2160360" cy="151164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3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t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4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qua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5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cinqu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6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soix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333360"/>
            <a:ext cx="2376720" cy="446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o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o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tre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4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quato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5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qui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se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7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ix-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8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ix-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9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ix-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333360"/>
            <a:ext cx="3168720" cy="446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0</a:t>
            </a: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 vin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1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 et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2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d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tr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4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qu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cin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6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7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8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9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4941720"/>
            <a:ext cx="3168720" cy="15829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70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soixante-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75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soixante-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0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quatre-vin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5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quatre-vingt-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4941720"/>
            <a:ext cx="3349800" cy="12970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9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quatre-vingt-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95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quatre-vingt-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10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2000" y="3809880"/>
            <a:ext cx="819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8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" y="5791320"/>
            <a:ext cx="65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6080" y="304920"/>
            <a:ext cx="8876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9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" y="1371600"/>
            <a:ext cx="79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4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5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6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7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4800" y="2666880"/>
            <a:ext cx="4304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404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4880" y="2666880"/>
            <a:ext cx="6469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692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2000" y="3809880"/>
            <a:ext cx="636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2000" y="4800600"/>
            <a:ext cx="819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120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256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375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498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" y="5791320"/>
            <a:ext cx="65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080" y="304920"/>
            <a:ext cx="8876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9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" y="1371600"/>
            <a:ext cx="79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4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5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6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7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4800" y="2666880"/>
            <a:ext cx="4304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404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4880" y="2666880"/>
            <a:ext cx="6469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692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1:41:08Z</dcterms:created>
  <dc:creator>Caroline Cassels</dc:creator>
  <dc:description/>
  <dc:language>en-US</dc:language>
  <cp:lastModifiedBy>Caroline Cassels</cp:lastModifiedBy>
  <dcterms:modified xsi:type="dcterms:W3CDTF">2007-01-21T21:49:08Z</dcterms:modified>
  <cp:revision>2</cp:revision>
  <dc:subject/>
  <dc:title>numbers</dc:title>
</cp:coreProperties>
</file>